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gif" ContentType="image/gif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64638-E83B-4AC3-81CF-DE820CD7B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82900-9DE0-48E3-AD79-15A0E679C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B6114-91A5-4426-86D5-04EA403C1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47991-0973-4AF8-9E18-31B3BB413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7CFD8-E013-41DF-87CB-9578D3B83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576C8-3F24-4861-AC85-8B348A685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9A083-4085-494E-8C81-FA197228F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004B1-C33E-417B-9FE7-B66E5EE77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C71E5-73EB-45D2-8F6B-F6C0B4033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C4539-E1B0-41C2-8254-9BB51591C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855E8-EA0E-485A-B3A7-16C0E1AF8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6635F-2C61-47E1-8306-376D88870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DD267-B658-4EDF-8261-57CAD29AC90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12.xml"/><Relationship Id="rId3" Type="http://schemas.openxmlformats.org/officeDocument/2006/relationships/slide" Target="slide12.xml"/><Relationship Id="rId4" Type="http://schemas.openxmlformats.org/officeDocument/2006/relationships/slide" Target="slide12.xml"/><Relationship Id="rId5" Type="http://schemas.openxmlformats.org/officeDocument/2006/relationships/slide" Target="slide12.xml"/><Relationship Id="rId6" Type="http://schemas.openxmlformats.org/officeDocument/2006/relationships/slide" Target="slide12.xml"/><Relationship Id="rId7" Type="http://schemas.openxmlformats.org/officeDocument/2006/relationships/slide" Target="slide12.xml"/><Relationship Id="rId8" Type="http://schemas.openxmlformats.org/officeDocument/2006/relationships/slide" Target="slide12.xml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atch a short  film and think of the questions follow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1628640"/>
            <a:ext cx="3276720" cy="25066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276720" y="1628640"/>
            <a:ext cx="3095640" cy="25210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6408720" y="1557360"/>
            <a:ext cx="2735280" cy="25210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995640" y="4797360"/>
            <a:ext cx="1513080" cy="935280"/>
          </a:xfrm>
          <a:prstGeom prst="rightArrow">
            <a:avLst>
              <a:gd name="adj1" fmla="val 50000"/>
              <a:gd name="adj2" fmla="val 4044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116000" y="4946760"/>
            <a:ext cx="34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the short fil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3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3000"/>
                            </p:stCondLst>
                            <p:childTnLst>
                              <p:par>
                                <p:cTn id="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3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7788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sten to the tape again, answer th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tions in page 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3964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fely comes fir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 the teacher’s instru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ttles may contain dangerous g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mediately wash your eyes with a lot a wa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ear everything away and leave the classroom neat and clean. Wash your hands with water and soap. Turn off the lights and shut the window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19120" y="1130400"/>
            <a:ext cx="261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The answ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6227640" y="620640"/>
            <a:ext cx="2664000" cy="18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8534160" cy="2209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3" name=""/>
          <p:cNvGraphicFramePr/>
          <p:nvPr/>
        </p:nvGraphicFramePr>
        <p:xfrm>
          <a:off x="457200" y="3886200"/>
          <a:ext cx="7924320" cy="2641320"/>
        </p:xfrm>
        <a:graphic>
          <a:graphicData uri="http://schemas.openxmlformats.org/drawingml/2006/table">
            <a:tbl>
              <a:tblPr/>
              <a:tblGrid>
                <a:gridCol w="2641680"/>
                <a:gridCol w="2640960"/>
                <a:gridCol w="2641680"/>
              </a:tblGrid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ven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vantag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advantag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99"/>
                    </a:solidFill>
                  </a:tcPr>
                </a:tc>
              </a:tr>
              <a:tr h="20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glev tra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</a:tbl>
          </a:graphicData>
        </a:graphic>
      </p:graphicFrame>
      <p:sp>
        <p:nvSpPr>
          <p:cNvPr id="104" name=""/>
          <p:cNvSpPr txBox="1"/>
          <p:nvPr/>
        </p:nvSpPr>
        <p:spPr>
          <a:xfrm>
            <a:off x="2057400" y="2362320"/>
            <a:ext cx="4191120" cy="129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宋体"/>
              </a:rPr>
              <a:t>Speaking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5" name=""/>
          <p:cNvGraphicFramePr/>
          <p:nvPr/>
        </p:nvGraphicFramePr>
        <p:xfrm>
          <a:off x="457200" y="762120"/>
          <a:ext cx="8153280" cy="4064040"/>
        </p:xfrm>
        <a:graphic>
          <a:graphicData uri="http://schemas.openxmlformats.org/drawingml/2006/table">
            <a:tbl>
              <a:tblPr/>
              <a:tblGrid>
                <a:gridCol w="2717640"/>
                <a:gridCol w="2718000"/>
                <a:gridCol w="2717640"/>
              </a:tblGrid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vantag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advantag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99"/>
                    </a:solidFill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on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clear energ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ute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ace fligh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</a:tbl>
          </a:graphicData>
        </a:graphic>
      </p:graphicFrame>
      <p:sp>
        <p:nvSpPr>
          <p:cNvPr id="106" name=""/>
          <p:cNvSpPr/>
          <p:nvPr/>
        </p:nvSpPr>
        <p:spPr>
          <a:xfrm>
            <a:off x="3708360" y="1773360"/>
            <a:ext cx="1244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提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443640" y="1773360"/>
            <a:ext cx="1244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提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924360" y="2637000"/>
            <a:ext cx="1244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提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443640" y="3284640"/>
            <a:ext cx="1244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提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780000" y="3357720"/>
            <a:ext cx="1244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提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43640" y="2565360"/>
            <a:ext cx="1244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提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780000" y="4149720"/>
            <a:ext cx="1244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9999"/>
                </a:solidFill>
                <a:uFillTx/>
                <a:latin typeface="Arial"/>
                <a:hlinkClick r:id="rId7" action="ppaction://hlinksldjump"/>
              </a:rPr>
              <a:t>提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72360" y="4221000"/>
            <a:ext cx="1244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9999"/>
                </a:solidFill>
                <a:uFillTx/>
                <a:latin typeface="Arial"/>
                <a:hlinkClick r:id="rId8" action="ppaction://hlinksldjump"/>
              </a:rPr>
              <a:t>提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5e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useful expressions  may help you to discuss the question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Cells(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细胞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),biology, people that look the same, making people, copying animals and people, organs(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器官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Pollute environmen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Dangerous; waste; expensive to build; electricity; lack of source(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能源不足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Do things faster than people; make work safer; information; difficult to control when something goes wrong; viruses(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病毒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Outer space; satellites in space; rescue; shows how far a country has develop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61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mework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627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review the text of this unit and try to get the main idea of each paragrap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find some information about </a:t>
            </a:r>
            <a:r>
              <a:rPr b="0" i="1" lang="en-US" sz="3200" spc="-1" strike="noStrike">
                <a:solidFill>
                  <a:srgbClr val="ff5050"/>
                </a:solidFill>
                <a:latin typeface="Arial"/>
              </a:rPr>
              <a:t>B</a:t>
            </a:r>
            <a:r>
              <a:rPr b="0" lang="en-US" sz="3200" spc="-1" strike="noStrike">
                <a:solidFill>
                  <a:srgbClr val="ff5050"/>
                </a:solidFill>
                <a:latin typeface="Arial"/>
              </a:rPr>
              <a:t>enjamin </a:t>
            </a:r>
            <a:r>
              <a:rPr b="1" i="1" lang="en-US" sz="3200" spc="-1" strike="noStrike">
                <a:solidFill>
                  <a:srgbClr val="ff5050"/>
                </a:solidFill>
                <a:latin typeface="Arial"/>
              </a:rPr>
              <a:t>F</a:t>
            </a:r>
            <a:r>
              <a:rPr b="0" lang="en-US" sz="3200" spc="-1" strike="noStrike">
                <a:solidFill>
                  <a:srgbClr val="ff5050"/>
                </a:solidFill>
                <a:latin typeface="Arial"/>
              </a:rPr>
              <a:t>rankl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6084720" y="1557360"/>
            <a:ext cx="2305080" cy="22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99"/>
                </a:solidFill>
                <a:latin typeface="Arial"/>
              </a:rPr>
              <a:t>Answer the questions according to the films you have se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211640" y="14130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re are the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5050"/>
                </a:solidFill>
                <a:latin typeface="Arial"/>
              </a:rPr>
              <a:t>They are on the Mo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o are the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5050"/>
                </a:solidFill>
                <a:latin typeface="Arial"/>
              </a:rPr>
              <a:t>They are American astronau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did it happe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5050"/>
                </a:solidFill>
                <a:latin typeface="Arial"/>
              </a:rPr>
              <a:t>On July 20</a:t>
            </a:r>
            <a:r>
              <a:rPr b="0" lang="en-US" sz="2800" spc="-1" strike="noStrike" baseline="30000">
                <a:solidFill>
                  <a:srgbClr val="ff505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ff5050"/>
                </a:solidFill>
                <a:latin typeface="Arial"/>
              </a:rPr>
              <a:t>, 196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140360" y="4952880"/>
            <a:ext cx="5003640" cy="19051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24000" y="2097000"/>
            <a:ext cx="363528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 July 20th, 1969,two American astronau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rmstrong and Aldrin landed on the surfa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the Moon. They become the first man wh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nded on the other planet and also beco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heroes of our human beings. But in fact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 prepare this plan, more than 400 thous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orkers have worked for it, including thous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scientists from 80 Scientific researc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itut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95280" y="981000"/>
            <a:ext cx="1295280" cy="720720"/>
          </a:xfrm>
          <a:prstGeom prst="wedgeRectCallout">
            <a:avLst>
              <a:gd name="adj1" fmla="val -46935"/>
              <a:gd name="adj2" fmla="val 12797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bout the short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2484360" y="0"/>
            <a:ext cx="388620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60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Who are they?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788000" y="1557360"/>
            <a:ext cx="3913200" cy="45720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324000" y="1628640"/>
            <a:ext cx="2828880" cy="39610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76200" y="5738760"/>
            <a:ext cx="311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ton  (1642-1727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itain scient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148360" y="6237360"/>
            <a:ext cx="326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Einstein(1879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955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5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2000"/>
                            </p:stCondLst>
                            <p:childTnLst>
                              <p:par>
                                <p:cTn id="8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4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 rot="372600">
            <a:off x="2700360" y="4952880"/>
            <a:ext cx="609588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9966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Who is she/he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9966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3048120" cy="47242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4427640" y="260280"/>
            <a:ext cx="2663640" cy="36003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7288200" y="482760"/>
            <a:ext cx="16048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ble (1833--1896)  Sweden chem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50920" y="5057640"/>
            <a:ext cx="2395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Mrs. Curie (1867 --1934) Poland chemis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5000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Arial"/>
              </a:rPr>
              <a:t>What are the names of the school subjects in which you study Scie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468360" y="1989000"/>
            <a:ext cx="8352720" cy="3094560"/>
            <a:chOff x="468360" y="1989000"/>
            <a:chExt cx="8352720" cy="3094560"/>
          </a:xfrm>
        </p:grpSpPr>
        <p:cxnSp>
          <p:nvCxnSpPr>
            <p:cNvPr id="64" name="_s12302"/>
            <p:cNvCxnSpPr>
              <a:stCxn id="65" idx="0"/>
              <a:endCxn id="66" idx="2"/>
            </p:cNvCxnSpPr>
            <p:nvPr/>
          </p:nvCxnSpPr>
          <p:spPr>
            <a:xfrm flipV="1" rot="16200000">
              <a:off x="5796360" y="2073600"/>
              <a:ext cx="619560" cy="2924280"/>
            </a:xfrm>
            <a:prstGeom prst="bentConnector3">
              <a:avLst>
                <a:gd name="adj1" fmla="val 1279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7" name="_s12301"/>
            <p:cNvCxnSpPr>
              <a:stCxn id="68" idx="0"/>
              <a:endCxn id="66" idx="2"/>
            </p:cNvCxnSpPr>
            <p:nvPr/>
          </p:nvCxnSpPr>
          <p:spPr>
            <a:xfrm flipV="1">
              <a:off x="4644360" y="3225960"/>
              <a:ext cx="3960" cy="6195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9" name="_s12300"/>
            <p:cNvCxnSpPr>
              <a:stCxn id="70" idx="0"/>
              <a:endCxn id="66" idx="2"/>
            </p:cNvCxnSpPr>
            <p:nvPr/>
          </p:nvCxnSpPr>
          <p:spPr>
            <a:xfrm flipH="1" flipV="1" rot="5400000">
              <a:off x="2873160" y="2073600"/>
              <a:ext cx="619560" cy="2924280"/>
            </a:xfrm>
            <a:prstGeom prst="bentConnector3">
              <a:avLst>
                <a:gd name="adj1" fmla="val 1279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66" name="_s12296"/>
            <p:cNvSpPr/>
            <p:nvPr/>
          </p:nvSpPr>
          <p:spPr>
            <a:xfrm>
              <a:off x="3391920" y="1989000"/>
              <a:ext cx="2505600" cy="12376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Science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_s12297"/>
            <p:cNvSpPr/>
            <p:nvPr/>
          </p:nvSpPr>
          <p:spPr>
            <a:xfrm>
              <a:off x="468360" y="3845880"/>
              <a:ext cx="2505600" cy="12376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Arial"/>
                </a:rPr>
                <a:t>Physics</a:t>
              </a: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_s12298"/>
            <p:cNvSpPr/>
            <p:nvPr/>
          </p:nvSpPr>
          <p:spPr>
            <a:xfrm>
              <a:off x="3391920" y="3845880"/>
              <a:ext cx="2505600" cy="12376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Arial"/>
                </a:rPr>
                <a:t>Chemistry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_s12299"/>
            <p:cNvSpPr/>
            <p:nvPr/>
          </p:nvSpPr>
          <p:spPr>
            <a:xfrm>
              <a:off x="6315480" y="3845880"/>
              <a:ext cx="2505600" cy="12376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Arial"/>
                </a:rPr>
                <a:t>Biology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" name=""/>
          <p:cNvSpPr/>
          <p:nvPr/>
        </p:nvSpPr>
        <p:spPr>
          <a:xfrm>
            <a:off x="1116000" y="5229360"/>
            <a:ext cx="6861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cc"/>
                </a:solidFill>
                <a:latin typeface="Arial"/>
              </a:rPr>
              <a:t>If you want to learn to the science subjects well, what should you d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cc"/>
                </a:solidFill>
                <a:latin typeface="Arial"/>
              </a:rPr>
              <a:t>at schoo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 rot="20941200">
            <a:off x="826560" y="620640"/>
            <a:ext cx="72072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华文新魏"/>
              </a:rPr>
              <a:t>?</a:t>
            </a:r>
            <a:endParaRPr b="1" lang="en-US" sz="7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华文新魏"/>
              <a:ea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04920" y="228600"/>
            <a:ext cx="8443800" cy="30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cc"/>
                </a:solidFill>
                <a:latin typeface="Arial"/>
              </a:rPr>
              <a:t>1.If you want to learn to the science subjects well, what should you also do except the class learn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cc"/>
                </a:solidFill>
                <a:latin typeface="Arial"/>
              </a:rPr>
              <a:t>2.What can you see in the pictures ? Give us the descriptio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3573360"/>
            <a:ext cx="9144000" cy="2895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 rot="228600">
            <a:off x="1692000" y="476280"/>
            <a:ext cx="5200560" cy="1832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Discussio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76" name=""/>
          <p:cNvSpPr/>
          <p:nvPr/>
        </p:nvSpPr>
        <p:spPr>
          <a:xfrm>
            <a:off x="457200" y="2514600"/>
            <a:ext cx="822960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cc"/>
                </a:solidFill>
                <a:latin typeface="Arial"/>
              </a:rPr>
              <a:t>If you do the experiments in the lab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cc"/>
                </a:solidFill>
                <a:latin typeface="Arial"/>
              </a:rPr>
              <a:t>What are the dos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cc"/>
                </a:solidFill>
                <a:latin typeface="Arial"/>
              </a:rPr>
              <a:t>What are the don’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"/>
          <p:cNvGraphicFramePr/>
          <p:nvPr/>
        </p:nvGraphicFramePr>
        <p:xfrm>
          <a:off x="228600" y="2057400"/>
          <a:ext cx="8610480" cy="4076640"/>
        </p:xfrm>
        <a:graphic>
          <a:graphicData uri="http://schemas.openxmlformats.org/drawingml/2006/table">
            <a:tbl>
              <a:tblPr/>
              <a:tblGrid>
                <a:gridCol w="4267080"/>
                <a:gridCol w="4343400"/>
              </a:tblGrid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’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99"/>
                    </a:solidFill>
                  </a:tcPr>
                </a:tc>
              </a:tr>
              <a:tr h="84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</a:tbl>
          </a:graphicData>
        </a:graphic>
      </p:graphicFrame>
      <p:sp>
        <p:nvSpPr>
          <p:cNvPr id="78" name=""/>
          <p:cNvSpPr/>
          <p:nvPr/>
        </p:nvSpPr>
        <p:spPr>
          <a:xfrm>
            <a:off x="914400" y="91440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cc"/>
                </a:solidFill>
                <a:latin typeface="Bookman Old Style"/>
              </a:rPr>
              <a:t>What should we do in the lab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304920"/>
            <a:ext cx="304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Impact"/>
              </a:rPr>
              <a:t>Spoken Engli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11280" y="2924280"/>
            <a:ext cx="3671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Listen/your teach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767120" y="3218040"/>
            <a:ext cx="3837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788000" y="3141720"/>
            <a:ext cx="3456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me in/withou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50920" y="3789360"/>
            <a:ext cx="432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Follow/teacher’s/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716360" y="3860640"/>
            <a:ext cx="3672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ouch/unless/teach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39640" y="4653000"/>
            <a:ext cx="340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Tidy/la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43280" y="4653000"/>
            <a:ext cx="41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rget/turn off/lo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50920" y="5516640"/>
            <a:ext cx="41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ut/everything/cupbo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840200" y="552276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rget/wa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-252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sten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68000" y="1052640"/>
            <a:ext cx="2459160" cy="29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Listen to the tape. Tick the things that Mrs. Zhu talks abou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995640" y="1268280"/>
            <a:ext cx="46864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  )safety in the la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  )glo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  ) g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  )experi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  )long hai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  )liqui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  )car accid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  )sho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  )fla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4265640"/>
            <a:ext cx="3635280" cy="259236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4427640" y="1341360"/>
            <a:ext cx="39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427640" y="2276640"/>
            <a:ext cx="39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27640" y="2708280"/>
            <a:ext cx="39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427640" y="3213000"/>
            <a:ext cx="39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427640" y="5084640"/>
            <a:ext cx="39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000"/>
                            </p:stCondLst>
                            <p:childTnLst>
                              <p:par>
                                <p:cTn id="23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1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1500"/>
                            </p:stCondLst>
                            <p:childTnLst>
                              <p:par>
                                <p:cTn id="24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5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2000"/>
                            </p:stCondLst>
                            <p:childTnLst>
                              <p:par>
                                <p:cTn id="24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9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500"/>
                            </p:stCondLst>
                            <p:childTnLst>
                              <p:par>
                                <p:cTn id="25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3000"/>
                            </p:stCondLst>
                            <p:childTnLst>
                              <p:par>
                                <p:cTn id="25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7" dur="5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3500"/>
                            </p:stCondLst>
                            <p:childTnLst>
                              <p:par>
                                <p:cTn id="25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1" dur="500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4000"/>
                            </p:stCondLst>
                            <p:childTnLst>
                              <p:par>
                                <p:cTn id="26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5" dur="500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4500"/>
                            </p:stCondLst>
                            <p:childTnLst>
                              <p:par>
                                <p:cTn id="26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9" dur="500"/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5000"/>
                            </p:stCondLst>
                            <p:childTnLst>
                              <p:par>
                                <p:cTn id="27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3" dur="500"/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8T06:12:47Z</dcterms:created>
  <dc:creator>肖清海</dc:creator>
  <dc:description/>
  <dc:language>en-US</dc:language>
  <cp:lastModifiedBy>肖清海</cp:lastModifiedBy>
  <dcterms:modified xsi:type="dcterms:W3CDTF">2004-03-22T06:29:38Z</dcterms:modified>
  <cp:revision>14</cp:revision>
  <dc:subject/>
  <dc:title>Answer the questions according to the film you have seen</dc:title>
</cp:coreProperties>
</file>